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907588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81160" cy="531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20760" y="-360"/>
            <a:ext cx="2979720" cy="531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759960" y="758520"/>
            <a:ext cx="538020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41040" y="4787640"/>
            <a:ext cx="5018040" cy="4484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9499320"/>
            <a:ext cx="2981160" cy="531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20760" y="9499320"/>
            <a:ext cx="2979720" cy="531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1E0BE07-283C-4FBA-89D0-070212BFF91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921120" y="9499680"/>
            <a:ext cx="2979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5D94EF7-6624-4527-92B9-30704B49E6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781200" y="760320"/>
            <a:ext cx="5333760" cy="36925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01800" y="4788000"/>
            <a:ext cx="5083200" cy="44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7162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57040" y="4104000"/>
            <a:ext cx="7162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27600" y="167616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57040" y="410400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27600" y="410400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230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78760" y="1676160"/>
            <a:ext cx="230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00840" y="1676160"/>
            <a:ext cx="230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57040" y="4104000"/>
            <a:ext cx="230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78760" y="4104000"/>
            <a:ext cx="230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00840" y="4104000"/>
            <a:ext cx="230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057040" y="16761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3495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727600" y="1676160"/>
            <a:ext cx="3495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57040" y="380880"/>
            <a:ext cx="7162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27600" y="1676160"/>
            <a:ext cx="3495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057040" y="410400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57040" y="16761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3495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27600" y="167616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727600" y="410400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27600" y="167616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040" y="4104000"/>
            <a:ext cx="7162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7162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057040" y="4104000"/>
            <a:ext cx="7162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27600" y="167616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057040" y="410400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727600" y="410400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230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760" y="1676160"/>
            <a:ext cx="230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00840" y="1676160"/>
            <a:ext cx="230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057040" y="4104000"/>
            <a:ext cx="230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478760" y="4104000"/>
            <a:ext cx="230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00840" y="4104000"/>
            <a:ext cx="230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3495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27600" y="1676160"/>
            <a:ext cx="3495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7040" y="380880"/>
            <a:ext cx="7162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27600" y="1676160"/>
            <a:ext cx="3495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57040" y="410400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3495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27600" y="167616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27600" y="410400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27600" y="1676160"/>
            <a:ext cx="3495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57040" y="4104000"/>
            <a:ext cx="7162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"/>
          <p:cNvPicPr/>
          <p:nvPr/>
        </p:nvPicPr>
        <p:blipFill>
          <a:blip r:embed="rId2"/>
          <a:stretch/>
        </p:blipFill>
        <p:spPr>
          <a:xfrm>
            <a:off x="0" y="0"/>
            <a:ext cx="990756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057040" y="16761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3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3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ff3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1250"/>
              </a:spcBef>
              <a:buClr>
                <a:srgbClr val="ff3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1250"/>
              </a:spcBef>
              <a:buClr>
                <a:srgbClr val="ff3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9201600" y="6477120"/>
            <a:ext cx="64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4BE7-3FA4-4463-8A12-D53DF44B4BA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152280" y="6477120"/>
            <a:ext cx="9506160" cy="0"/>
          </a:xfrm>
          <a:prstGeom prst="line">
            <a:avLst/>
          </a:prstGeom>
          <a:ln w="12600">
            <a:solidFill>
              <a:srgbClr val="8b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"/>
          <p:cNvSpPr/>
          <p:nvPr/>
        </p:nvSpPr>
        <p:spPr>
          <a:xfrm flipV="1">
            <a:off x="9372600" y="1676520"/>
            <a:ext cx="0" cy="5029200"/>
          </a:xfrm>
          <a:prstGeom prst="line">
            <a:avLst/>
          </a:prstGeom>
          <a:ln w="12600">
            <a:solidFill>
              <a:srgbClr val="8b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990756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057040" y="16761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3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3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ff3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1250"/>
              </a:spcBef>
              <a:buClr>
                <a:srgbClr val="ff3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1250"/>
              </a:spcBef>
              <a:buClr>
                <a:srgbClr val="ff3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136520" y="4149360"/>
            <a:ext cx="56880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.К. Овчаров, Председатель Комитета по оценке соответствия проду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Ассоциация Европейского Бизне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Москва, 2 августа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20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13 г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133720" y="3429000"/>
            <a:ext cx="7086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eulogo"/>
          <p:cNvPicPr/>
          <p:nvPr/>
        </p:nvPicPr>
        <p:blipFill>
          <a:blip r:embed="rId1"/>
          <a:stretch/>
        </p:blipFill>
        <p:spPr>
          <a:xfrm>
            <a:off x="304920" y="404640"/>
            <a:ext cx="1676160" cy="1143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136160" y="1773000"/>
            <a:ext cx="84250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О реализации технического регламента «О безопасности продукции легкой промышленности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704880" y="1988640"/>
            <a:ext cx="851544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бования по сертификации на данный момент представляются избыточ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единого толкования списка товаров, на которые распространяется действие ТР, осложняет процесс таможенного оформ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портеры, ввозящие одновременно товары разных торговых марок от различных изготовителей несут тем большие затраты на подтверждение качества, чем шире ассортимен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резмерно жесткие требования по гигроскопичности и воздухопроницаемости, предъявляемые ТР к нательному, постельному и столовому белью, препятствуют импорту товара, признанного в Европе качественным и безопасным, но не удовлетворяющего требованиям Т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057040" y="16761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3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ятие регламента декабрь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3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 в силу июль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3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ка документов для аккредитации 1 меся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3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ок получения аккредитации 6 меся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3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чно в срок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3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057040" y="16761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3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тоящее время в Едином реестре содержа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3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 органов по сертификации (ОС) и 27 испытательных лабораторий (ИЛ) Республики Беларус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3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0 ОС и 41 ИЛ Республики Казахста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3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5 ОС и 41 ИЛ Российской Федер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ое количество, особенно испытательных лабораторий, явно недостаточно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057040" y="16761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ний пример ТР ТС «О безопасности оборудования, работающего под давление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3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ятие регламента июль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3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 в силу февраль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3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остоянию на август 2013 не существует Перечня документов в области стандартизации, содержащих правила и методы исследований (испытаний), таким образом невозможно приступить к подготовке документов для аккреди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2:11:42Z</dcterms:created>
  <dc:creator>gretchen morris</dc:creator>
  <dc:description/>
  <dc:language>en-US</dc:language>
  <cp:lastModifiedBy>Ovcharov</cp:lastModifiedBy>
  <cp:lastPrinted>2004-05-20T06:13:54Z</cp:lastPrinted>
  <dcterms:modified xsi:type="dcterms:W3CDTF">2013-08-01T13:06:51Z</dcterms:modified>
  <cp:revision>150</cp:revision>
  <dc:subject/>
  <dc:title>Présentation PowerPoint</dc:title>
</cp:coreProperties>
</file>