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20760" y="-360"/>
            <a:ext cx="297972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59960" y="758520"/>
            <a:ext cx="53802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1040" y="4787640"/>
            <a:ext cx="5018040" cy="448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499320"/>
            <a:ext cx="298116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20760" y="9499320"/>
            <a:ext cx="297972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64E391-3B7A-4C86-AF80-67D4AA676B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21120" y="9499680"/>
            <a:ext cx="2979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3FB908-4FD0-4378-8ED4-345CA76CB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781200" y="760320"/>
            <a:ext cx="5333760" cy="36925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1800" y="4788000"/>
            <a:ext cx="5083200" cy="44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21120" y="9499680"/>
            <a:ext cx="2979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8D2C75-404A-434C-9FF8-BE081D58D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0320" y="7588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41040" y="4787640"/>
            <a:ext cx="501804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76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0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7876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040" y="3808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76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47876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3808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990756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3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ff3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9201600" y="64771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1C7-4380-47FC-A8AB-3D37AAB45E2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152280" y="6477120"/>
            <a:ext cx="9506160" cy="0"/>
          </a:xfrm>
          <a:prstGeom prst="line">
            <a:avLst/>
          </a:prstGeom>
          <a:ln w="12600">
            <a:solidFill>
              <a:srgbClr val="8b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 flipV="1">
            <a:off x="9372600" y="1676520"/>
            <a:ext cx="0" cy="5029200"/>
          </a:xfrm>
          <a:prstGeom prst="line">
            <a:avLst/>
          </a:prstGeom>
          <a:ln w="12600">
            <a:solidFill>
              <a:srgbClr val="8b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90756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3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ff3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36520" y="4149360"/>
            <a:ext cx="56880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.К. Овчаров, Председатель Комитета по оценке соответствия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ссоциация Европейского Бизн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осква, 2 августа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3 г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33720" y="3429000"/>
            <a:ext cx="708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eulogo"/>
          <p:cNvPicPr/>
          <p:nvPr/>
        </p:nvPicPr>
        <p:blipFill>
          <a:blip r:embed="rId1"/>
          <a:stretch/>
        </p:blipFill>
        <p:spPr>
          <a:xfrm>
            <a:off x="304920" y="40464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36160" y="1773000"/>
            <a:ext cx="84250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Об порядках, регламентирующих процедуры оценки соответствия низковольтного оборудования требованиям Технического реглам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ение положений технического регламента в части терминов, определений и 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речие с положениями технического регламента – авторизация лаборат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яя регламентация – ежегодный инспекционны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ном аудите 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G 2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являющимся предметом автор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данные порядки представляется нецелесообраз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атериалы могут быть использованы как методические материалы для подготовки экспертов-ауди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сти изменения в п.2 Статьи 4 Соглашение об обращении продукции от 11 декабря 2009 года, допустив признание результатов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992160" y="981000"/>
            <a:ext cx="828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4520" y="981000"/>
            <a:ext cx="8875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1800" y="1125360"/>
            <a:ext cx="8569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44520" y="1052640"/>
            <a:ext cx="9001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6160" y="2209320"/>
            <a:ext cx="7010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имир Константинович Овч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-mail: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ladimir.ovcharov@sg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Тел.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+7 (495) 775-44-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Факс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+7 (495) 775 44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91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491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491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49100"/>
                </a:solidFill>
                <a:latin typeface="Arial"/>
              </a:rPr>
              <a:t>WWW.RU.SG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domino"/>
          <p:cNvPicPr/>
          <p:nvPr/>
        </p:nvPicPr>
        <p:blipFill>
          <a:blip r:embed="rId1"/>
          <a:stretch/>
        </p:blipFill>
        <p:spPr>
          <a:xfrm>
            <a:off x="6629400" y="304920"/>
            <a:ext cx="17971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2:11:42Z</dcterms:created>
  <dc:creator>gretchen morris</dc:creator>
  <dc:description/>
  <dc:language>en-US</dc:language>
  <cp:lastModifiedBy>Накорчемная Валерия Владиславовна</cp:lastModifiedBy>
  <cp:lastPrinted>2004-05-20T06:13:54Z</cp:lastPrinted>
  <dcterms:modified xsi:type="dcterms:W3CDTF">2013-08-01T12:39:09Z</dcterms:modified>
  <cp:revision>144</cp:revision>
  <dc:subject/>
  <dc:title>Présentation PowerPoint</dc:title>
</cp:coreProperties>
</file>