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792324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760" y="3301920"/>
            <a:ext cx="792324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5840" y="98388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5760" y="330192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5840" y="330192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255096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983880"/>
            <a:ext cx="255096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3640" y="983880"/>
            <a:ext cx="255096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5760" y="3301920"/>
            <a:ext cx="255096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301920"/>
            <a:ext cx="255096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3640" y="3301920"/>
            <a:ext cx="255096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433-00B1-40DF-B5BD-21B5B581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45760" y="983880"/>
            <a:ext cx="79232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C5C-642E-4BAC-8007-20A93D78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79232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37A0-C1B6-4BFC-B582-209F23EF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38664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5840" y="983880"/>
            <a:ext cx="38664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192-7228-4643-B713-FB591828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E290-54FF-404E-BE13-F793B6C3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85720" y="328680"/>
            <a:ext cx="58816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EA80-14FC-47B7-B16E-CC33F149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5840" y="983880"/>
            <a:ext cx="38664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5760" y="330192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CD6-E251-40FE-A7F2-673F5EFE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5760" y="983880"/>
            <a:ext cx="79232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38664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5840" y="98388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5840" y="330192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3C7C-B636-46CE-8553-1CAC5815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5840" y="98388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5760" y="3301920"/>
            <a:ext cx="792324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D6F-70F2-4086-813E-0F656ABF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792324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760" y="3301920"/>
            <a:ext cx="792324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A9E4-6A9D-4659-87CE-33B5A340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5840" y="98388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5760" y="330192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5840" y="330192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A179-5D3C-40AE-8086-195AF215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255096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983880"/>
            <a:ext cx="255096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03640" y="983880"/>
            <a:ext cx="255096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5760" y="3301920"/>
            <a:ext cx="255096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3301920"/>
            <a:ext cx="255096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03640" y="3301920"/>
            <a:ext cx="255096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4FC-0F88-43A7-BD98-974C66D2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45760" y="983880"/>
            <a:ext cx="79232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79232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38664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05840" y="983880"/>
            <a:ext cx="38664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79232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85720" y="328680"/>
            <a:ext cx="58816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05840" y="983880"/>
            <a:ext cx="38664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45760" y="330192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38664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05840" y="98388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05840" y="330192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5840" y="98388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45760" y="3301920"/>
            <a:ext cx="792324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792324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5760" y="3301920"/>
            <a:ext cx="792324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5840" y="98388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45760" y="330192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05840" y="330192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255096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4520" y="983880"/>
            <a:ext cx="255096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03640" y="983880"/>
            <a:ext cx="255096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45760" y="3301920"/>
            <a:ext cx="255096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4520" y="3301920"/>
            <a:ext cx="255096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03640" y="3301920"/>
            <a:ext cx="255096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38664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5840" y="983880"/>
            <a:ext cx="38664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5720" y="328680"/>
            <a:ext cx="58816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5840" y="983880"/>
            <a:ext cx="38664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5760" y="330192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38664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5840" y="98388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5840" y="330192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5760" y="98388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5840" y="983880"/>
            <a:ext cx="386640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760" y="3301920"/>
            <a:ext cx="7923240" cy="21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5" descr="logo.jpg"/>
          <p:cNvPicPr/>
          <p:nvPr/>
        </p:nvPicPr>
        <p:blipFill>
          <a:blip r:embed="rId2"/>
          <a:stretch/>
        </p:blipFill>
        <p:spPr>
          <a:xfrm>
            <a:off x="7099200" y="216000"/>
            <a:ext cx="1836720" cy="100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45760" y="983880"/>
            <a:ext cx="79232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-312120">
              <a:spcAft>
                <a:spcPts val="2999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Aft>
                <a:spcPts val="2999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spcAft>
                <a:spcPts val="2999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455840" indent="-207720">
              <a:spcAft>
                <a:spcPts val="2999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872000" indent="-207720">
              <a:spcAft>
                <a:spcPts val="2999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872000" indent="-207720">
              <a:spcAft>
                <a:spcPts val="29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872000" indent="-207720">
              <a:spcAft>
                <a:spcPts val="29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Text Box 16"/>
          <p:cNvSpPr/>
          <p:nvPr/>
        </p:nvSpPr>
        <p:spPr>
          <a:xfrm>
            <a:off x="650520" y="6576840"/>
            <a:ext cx="131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©Anheuser-Busch InBev</a:t>
            </a: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Рисунок 9" descr="SUN InBev presentation2.png"/>
          <p:cNvPicPr/>
          <p:nvPr/>
        </p:nvPicPr>
        <p:blipFill>
          <a:blip r:embed="rId3"/>
          <a:stretch/>
        </p:blipFill>
        <p:spPr>
          <a:xfrm>
            <a:off x="0" y="5772240"/>
            <a:ext cx="9144000" cy="108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Aft>
                <a:spcPts val="15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Aft>
                <a:spcPts val="15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Aft>
                <a:spcPts val="15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Aft>
                <a:spcPts val="15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163C-9F45-4EF5-94E8-95210B0D00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ABInBev_A5_RGB_LO"/>
          <p:cNvPicPr/>
          <p:nvPr/>
        </p:nvPicPr>
        <p:blipFill>
          <a:blip r:embed="rId2"/>
          <a:srcRect l="9412" t="0" r="0" b="30944"/>
          <a:stretch/>
        </p:blipFill>
        <p:spPr>
          <a:xfrm>
            <a:off x="5634000" y="63360"/>
            <a:ext cx="3422520" cy="1846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9"/>
          <p:cNvSpPr/>
          <p:nvPr/>
        </p:nvSpPr>
        <p:spPr>
          <a:xfrm>
            <a:off x="650520" y="6576840"/>
            <a:ext cx="131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©Anheuser-Busch InBev</a:t>
            </a: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Рисунок 7" descr="ABI_PAT_4C_A4_LS_01.jpg"/>
          <p:cNvPicPr/>
          <p:nvPr/>
        </p:nvPicPr>
        <p:blipFill>
          <a:blip r:embed="rId3"/>
          <a:stretch/>
        </p:blipFill>
        <p:spPr>
          <a:xfrm>
            <a:off x="0" y="306360"/>
            <a:ext cx="9144000" cy="6551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45760" y="983880"/>
            <a:ext cx="79232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-312120">
              <a:spcAft>
                <a:spcPts val="2999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Aft>
                <a:spcPts val="2999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spcAft>
                <a:spcPts val="2999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455840" indent="-207720">
              <a:spcAft>
                <a:spcPts val="2999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872000" indent="-207720">
              <a:spcAft>
                <a:spcPts val="2999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872000" indent="-207720">
              <a:spcAft>
                <a:spcPts val="29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872000" indent="-207720">
              <a:spcAft>
                <a:spcPts val="29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0440" y="3525480"/>
            <a:ext cx="8596440" cy="16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мментарии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 проекту ТР ТС «О безопасности алкогольной продукции»</a:t>
            </a:r>
            <a:br>
              <a:rPr sz="3200"/>
            </a:b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2494080" y="5319720"/>
            <a:ext cx="72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Директор по корпоративным отношениям А.В.Ерин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1944720" y="6300720"/>
            <a:ext cx="48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осква, 1 августа 2013 г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Процедура уведомления</a:t>
            </a: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5760" y="983880"/>
            <a:ext cx="79232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ья 3. Правила обращения на рын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Aft>
                <a:spcPts val="20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 Алкогольная продукция обращается на территории государств-членов Таможенного союза при условии направления уведомления о начале обращения алкогольной продукции (далее – уведомление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Aft>
                <a:spcPts val="20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 Уведомитель (изготовитель (производитель) или поставщик (импортер) алкогольной продукции) направляет в уполномоченный орган государства-члена Таможенного союза уведомление в электронном виде по форме согласно приложению 6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ращение алкогольной продукции на территории государств-членов Таможенного союза допускается после получения уведомителем подтверждения о получении уведомления от уполномоченного органа государства-члена Таможенного союза в электронном виде в автоматическом или автоматизированном режим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85360" y="328680"/>
            <a:ext cx="6413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Процедура уведомления</a:t>
            </a: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5760" y="1249200"/>
            <a:ext cx="792324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Контраргумент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25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ведение дополнительной процедуры, являющейся подтверждением соответ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25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дминистративный барьер – разрешительная процед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25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соответствие объекту технического регулирования – Безопасность алкогольной продук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Предложени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25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ключить пункт об уведомлениях о начале оборота алкогольной продукции из проекта ТР ТС и отменить соответствующие российские нор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Требования к рецептуре</a:t>
            </a: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45760" y="983880"/>
            <a:ext cx="79232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ья 2. Опреде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иво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алкогольная продукция с содержанием этилового спирта, образовавшегося в процессе брожения пивного сусла, которая произведена из пивоваренного солода, специального пивоваренного солода, хмеля и (или) полученных в результате переработки хмеля продуктов (хмелепродуктов), воды с использованием пивных дрожжей, без добавления этилового спирта, ароматических и вкусовых добавок. Допускается частичная замена пивоваренного солода зерном, и (или) продуктами его переработки (зернопродуктами), при условии, что их совокупная масса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 превышает 50 процентов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ассы заменяемого солода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масса сахаросодержащих продуктов не превышает 2 процентов массы солода, зерна и зернопродуктов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Требования к рецептуре</a:t>
            </a: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45760" y="983880"/>
            <a:ext cx="828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Контраргумент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ногочисленные исследования доказывают, что содержание несоложеных материалов в пиве и сахара не оказывают влияния на его качество и безопас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полнительные барьеры при выпуске пивоваренной продукции на рын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нижение ассортимента продукции, отсутствие выбо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сутствие лабораторных методов определения доли несоложеного сырь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ступление России в ВТО, сложности с гармонизацией законодательств. Технические проблемы в торговле для отечественных производителей пи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еключение потребителей на дешевый крепкий алкоголь, водк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Предложени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5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хранить положения ТР ТС или исключить данный пунк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Требования к оборудованию</a:t>
            </a: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12920" y="868320"/>
            <a:ext cx="7922880" cy="52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ья 6. Обеспечение безопасности алкогольной продукции в процессе ее производства и обращ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. В процессе производства в целях обеспечения установленных регламентом требований к алкогольной продукции должны использоваться технологическое оборудование и инвентарь, контактирующие с продукцией, которы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) имеют конструктивные и эксплуатационные характеристики, обеспечивающие производство продукции, соответствующей требованиям, установленным регламент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) дают возможность производить их мойку и (или) очищение и преддезинфекцию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) изготовлены из материалов, соответствующих требованиям, предъявляемым к материалам, контактирующим с пищевыми продуктами, установленным соответствующими техническими регламентами Таможенного союза, а в случае их отсутствия - законодательством государств-членов Таможенного союза, и обеспечивающих соответствие алкогольной продукции требованиям регламен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бочие поверхности технологического оборудования и инвентаря, контактирующие с алкогольной продукцией, должны быть гладкими, выполненными из неабсорбирующих материал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Требования к оборудованию</a:t>
            </a: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45760" y="1315800"/>
            <a:ext cx="79232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Контраргумент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5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ование является избыточным в рамках обсуждаемого Техреглам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5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ования к безопасности оборудования будут описаны в ТР «О безопасности материалов, контактирующих с пищевой продукцией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Предложени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5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ключить пункт из проекта Техреглам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Требования к маркировке</a:t>
            </a: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45760" y="983880"/>
            <a:ext cx="79232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ья 6. Обеспечение безопасности алкогольной продукции в процессе ее производства и обращ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Aft>
                <a:spcPts val="20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5) контрастную предупредительную надпись "Чрезмерное употребление алкоголя вредит Вашему здоровью", которая наносится прописными буквами легко читаемым шрифтом максимально крупного размера и занимает не менее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0 процентов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трэтикетки, или этикетки, или площади потребительской тар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0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0) на маркировку потребительской тары (упаковки) наносится надпись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Не рекомендуется использование лицами в возрасте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 21 год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беременными и кормящими женщинами, а также лицами с заболеваниями нервной системы и внутренних органов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5720" y="328680"/>
            <a:ext cx="588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Требования к маркировке</a:t>
            </a:r>
            <a:endParaRPr b="0" lang="en-US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45760" y="1339560"/>
            <a:ext cx="79232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Контраргумент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5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ования о 20% площади для надписи о «Чрезмерном потреблении» избыточна и не обладает ясными формулировками об использовании на различных видах этикет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5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сутствие логики в рекомендательной надписи «Не рекомендуется лицам в возрасте до 21 года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Предложени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Aft>
                <a:spcPts val="25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ключить оба пункта из проекта Техреглам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6:24:33Z</dcterms:created>
  <dc:creator>Sadie Darling</dc:creator>
  <dc:description>Anheuser-Busch InBev</dc:description>
  <cp:keywords>Anheuser-Busch InBev November 2008 </cp:keywords>
  <dc:language>en-US</dc:language>
  <cp:lastModifiedBy>Yerin, Andrey</cp:lastModifiedBy>
  <cp:lastPrinted>2013-07-30T08:05:19Z</cp:lastPrinted>
  <dcterms:modified xsi:type="dcterms:W3CDTF">2013-07-30T12:37:19Z</dcterms:modified>
  <cp:revision>380</cp:revision>
  <dc:subject>Anheuser-Busch InBev</dc:subject>
  <dc:title>Anheuser-Busch InBev-v2_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number">
    <vt:lpwstr>2.5</vt:lpwstr>
  </property>
</Properties>
</file>